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629-F8A9-44CA-929E-74EEFF9F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2A6-2933-470B-A7E1-34BB0D7D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C1F-18D4-41D6-AD83-8EF83D52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C03-3234-401C-B800-E9A86C34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537-0E09-431A-B404-5E24BD47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6F3-14E2-4CC4-B886-8B651C4D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61E-2C91-4503-B06B-1FD2E1F4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67E-15F8-4C9A-A087-F9A851A4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9EA-238E-4886-8A18-B4B3D0A3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F05-B19D-41FD-9586-461CB0D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E95-1BED-47A0-B8E2-4E16D834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EB7-7E40-4F9F-A181-D27E7688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2FE-C939-42EC-B250-4BDB0703D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4419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38088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Fractions must hav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like (same) denomina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order to be added to or subtracted from one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y are the 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ahead and add or subtr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y are not the 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 common denominator and convert one or both fractions so that they do have the same denomin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do some toge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219320" y="2306520"/>
                <a:ext cx="9144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57360" y="344160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219320" y="3510000"/>
                <a:ext cx="9144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286000" y="4110120"/>
            <a:ext cx="23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360" y="45990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95280" y="4800600"/>
                <a:ext cx="990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43000" y="1905120"/>
                <a:ext cx="1447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0948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3130560"/>
                <a:ext cx="10666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523880" y="32004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00200" y="4575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295280" y="4354560"/>
                <a:ext cx="1143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mixed numbers, you add or subtract fractions first, then whole numbe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ne place at a time just like when adding or subtracting whole numbers.)  Remember to stack before you attack so digits are set up by place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76520" y="4191120"/>
                <a:ext cx="1676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ry S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600200" y="2514600"/>
                <a:ext cx="1676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954000" y="40194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600200" y="4191120"/>
                <a:ext cx="1676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327400" y="58672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regroup if necess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textbook pg. 260  problems 27-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 2:  Home textbook pg. 278 problems 20 -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2:37:29Z</dcterms:created>
  <dc:creator>Brian McGrath</dc:creator>
  <dc:description/>
  <dc:language>en-US</dc:language>
  <cp:lastModifiedBy>deanne elizabeth mcgrath</cp:lastModifiedBy>
  <dcterms:modified xsi:type="dcterms:W3CDTF">2011-03-15T19:18:43Z</dcterms:modified>
  <cp:revision>5</cp:revision>
  <dc:subject/>
  <dc:title>Tuesday, April 6, 2010</dc:title>
</cp:coreProperties>
</file>